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76EB-E299-4E7F-B71B-65DA5AEB6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AE00-97E4-4F25-B308-091ABAB9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3291-1591-491B-AEA4-4ED451955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6F9A-6EE3-4E11-8003-67384A9CB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60BB-F614-4F13-9798-A143C6B1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9E6F-9A81-4EE5-A227-65E106D0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2CB1-D1AC-44DB-998D-D48398CC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02E2-5BCD-4646-8550-10103AB6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A38B-97B7-4509-A34D-63C0C4D8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3E30-C235-4BD6-B447-8561D9DA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94E9-CB8E-4FEA-87D6-D8F135A4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7320-9AEE-41D4-B5D5-18820421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AE6B-57A0-4FD2-B223-A88E3012A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219320"/>
            <a:ext cx="55627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Papyrus"/>
              </a:rPr>
              <a:t>La Rutina de Gerald Pand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Papyrus"/>
              <a:ea typeface="Papyrus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09680" y="2819520"/>
            <a:ext cx="251460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By: Matt Green &amp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Owen Bear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0" y="1371600"/>
            <a:ext cx="8763120" cy="17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omic Sans MS"/>
              </a:rPr>
              <a:t>La Rutina de Animados</a:t>
            </a:r>
            <a:endParaRPr b="1" lang="en-US" sz="3200" spc="1" strike="noStrike">
              <a:ln w="12600">
                <a:solidFill>
                  <a:srgbClr val="b2b2b2"/>
                </a:solidFill>
                <a:miter/>
              </a:ln>
              <a:solidFill>
                <a:srgbClr val="00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276200" y="3111480"/>
            <a:ext cx="65916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By: Owen Bearer Y Matt Gre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acuesta.  Se acuesta a las once de la noche.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 se duerme ensegui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53352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Otto Rock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09680" y="38088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Comic Sans MS"/>
              </a:rPr>
              <a:t>Tommy Pick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4724280"/>
            <a:ext cx="350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Tommy se acuesta.  Se acuesta a las once de la noche.  Él se duerme no ensegu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rnold y Geral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Muchachos se despiertan temperano.  Se lavantan ensegu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01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3520" y="380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45720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99ff"/>
                </a:solidFill>
                <a:latin typeface="Comic Sans MS"/>
              </a:rPr>
              <a:t>Aronld y Geral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541008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Comic Sans MS"/>
              </a:rPr>
              <a:t>Los Muchachos se despiertan temperano.  Se lavantan ensegu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a una ducha.   Se lava el pe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5486400"/>
            <a:ext cx="371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Squidward toma una ducha. Se lava su espal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Comic Sans MS"/>
              </a:rPr>
              <a:t>Squidward y Spongebo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55627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El muchcho no se ba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  <a:ea typeface="Arial"/>
              </a:rPr>
              <a:t>ñ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muchacho se pone la r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-137160" y="6181560"/>
            <a:ext cx="440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 muchacho se pone la 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80880"/>
            <a:ext cx="952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Ro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muchacho se cepilla los d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-498600" y="6257880"/>
            <a:ext cx="63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El muchacho se cepilla los d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3808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mic Sans MS"/>
              </a:rPr>
              <a:t>Stimp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muchacho se afeita. Se afeita con la nava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143000" y="6105600"/>
            <a:ext cx="892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l muchacho se afeita. Se afeita con la nava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29000" y="53352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Superm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uchacha se maquilla. Se pone el maquilla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5487840"/>
            <a:ext cx="4038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La muchacha se maquilla. Se pone el maquill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380880"/>
            <a:ext cx="38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Ging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39040" y="5181480"/>
            <a:ext cx="260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La Muchacha se peina. Se mira en el espejo cuando se pi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muchacho se sienta a la mesa. Toma el desayuno. Se desayu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019920" y="5334120"/>
            <a:ext cx="296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l muchacho se sienta a la mesa. Toma el desayuno. Se desayu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30492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Comic Sans MS"/>
              </a:rPr>
              <a:t>Dou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7:57:58Z</dcterms:created>
  <dc:creator>greenmat</dc:creator>
  <dc:description/>
  <dc:language>en-US</dc:language>
  <cp:lastModifiedBy>greenmat</cp:lastModifiedBy>
  <dcterms:modified xsi:type="dcterms:W3CDTF">2012-04-05T16:00:18Z</dcterms:modified>
  <cp:revision>8</cp:revision>
  <dc:subject/>
  <dc:title>Slide 1</dc:title>
</cp:coreProperties>
</file>